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3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4A599-E2B4-4CEF-80DD-C0550F72AA47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C85AC-6E8A-4419-AAD7-3325ADE8BAEA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A2583-00F9-4CBE-81FE-0113740074B6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71357-7D39-4C03-961D-4E32B60450DC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6CF2D-95D0-4076-AF60-1CEA6CDFF3B4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0BF0B-3465-4528-AF8B-16619152F00B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AAFFF-F0F3-4A34-8E9C-BAC667FA67C4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4F2E2-E2E2-4831-9FD8-4C9A502CF34A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94B64-85CB-44CB-B621-79CD75687D7C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63B37-A030-46D5-B6D6-337CFFBE0CC4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8AEA74-D1F4-4D99-888E-C3C39AA467A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9B6A57-1D7D-4A5E-8025-305D5B9B2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B7704E-9179-449C-879F-352714BEC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8DCC0C-0666-4852-96F7-887230255BE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7BD227-A9E6-4D49-9EE8-61CF1A10A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B24F2C-D333-4E19-906D-85238054D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D2B6EF-1B24-4882-A072-9E18772F9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5BB67E-722D-47E6-9B71-A6C52C6C4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662945-9B78-4920-B666-46C756CFF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4F93AA-2BA9-43F0-90F3-68C391163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47F91E-697F-4086-9466-EC789C3E9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64E7A4-CED3-4F8E-BBF4-9E4E4DAC6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02E76-C888-4538-8BEF-6EC7724AE07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64360" y="6597720"/>
            <a:ext cx="1620720" cy="260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206064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第五章 </a:t>
            </a: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护理程序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护理程序的发展史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56760" y="112500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95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，美国护理学家赫尔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Hal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首先提出了“护理程序”的概念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约翰逊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Johnso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、奥兰多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Orlando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、威登贝尔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Wiedenbac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对护理程序作了进一步的理论阐述，试图将护理程序分为三个步骤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96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尤拉和沃尔什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Yora &amp; Wals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将护理程序确定为四个步骤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97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，盖比和拉文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Gebbie &amp; Lavi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在护理程序中加入了护理诊断，使护理程序分为五个步骤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97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，美国护士协会将护理程序规定为评估、诊断、计划、实施、评价五个步骤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护理程序的发展史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世纪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8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代初，美籍学者李式莺博士将护理程序引入我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99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，经美籍华裔学者吴袁剑云介绍，国内部分医院开始试点建设以护理程序为核心的系统化整体护理“模式病房”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99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，卫生部发文要求各医院积极推行整体护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0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吴袁剑云又向我国介绍以护理程序为基本框架的临床路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五、护理程序的作用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程序使解决服务对象的健康问题更具目标性和个体性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程序使现代护理学更具科学性和系统性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程序保证了整体护理的实施和护理质量的提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 护理评估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收集资料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整理和分析资料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收集资料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资料的内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般资料、健康体检、生活状况及自理程度、心理社会状况、近期的实验室及其他检查结果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资料的类型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主观资料、客观资料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收集资料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资料的来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服务对象本人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家属及关系密切者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其他医务人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服务对象的健康记录或病历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医疗和护理的有关文献资料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收集资料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收集资料的方法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观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交谈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健康评估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查阅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整理和分析资料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核实资料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核实主观资料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明确内容含糊资料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整理资料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按马斯洛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Maslow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需要层次论进行整理分类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按戈登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Gordo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种功能性健康型态整理分类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诊断的概念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诊断的组成部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诊断的类型与陈述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诊断书写的注意事项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 护理诊断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是关于个人、家庭、社区对现存或潜在的健康问题及生命过程反应的一种临床判断，是护士为达到预期的结果选择护理措施的基础，这些预期结果应能通过护理职能达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7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护理诊断的概念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课程内容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一节  概  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二节  护理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三节  护理诊断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四节  护理计划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五节  实  施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六节  评  价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名称：是对服务对象健康状况的概括性的描述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定义：是对名称的一种清晰的、正确的表达，并以此与其他诊断相鉴别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诊断依据：是患者所具有的一组症状和体征，以及有关病史，也可以是危险因素，是做出诊断时的临床判断标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相关因素：指影响个体健康状况，导致健康问题的直接因素、促成因素或危险因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1199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病理生理方面、心理方面、治疗方面、情境方面、年龄方面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9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护理诊断的组成部分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结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健康问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症状或体征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原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陈述方式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三部分陈述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两部分陈述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部分陈述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1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护理诊断的类型与陈述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分类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现存的护理诊断原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潜在的护理诊断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健康的护理诊断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综合的护理诊断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护理诊断的类型与陈述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诊断与合作性问题及医疗诊断的关系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合作性问题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潜在并发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诊断与医疗诊断的区别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护理诊断的类型与陈述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380880" y="3573360"/>
          <a:ext cx="8523360" cy="2941920"/>
        </p:xfrm>
        <a:graphic>
          <a:graphicData uri="http://schemas.openxmlformats.org/drawingml/2006/table">
            <a:tbl>
              <a:tblPr/>
              <a:tblGrid>
                <a:gridCol w="1562400"/>
                <a:gridCol w="3781080"/>
                <a:gridCol w="3179880"/>
              </a:tblGrid>
              <a:tr h="371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区别内容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护理诊断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医疗诊断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609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诊断对象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个人、家庭、社区的健康问题或生命过程反应的一种临床判断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个体病理生理改变的一种临床判断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1220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描述内容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问题状态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数量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稳定性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对健康问题的反应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现存或潜在的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数目较多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随患者健康状况的变化而变化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个体的疾病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多是现存的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数目较少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相对稳定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370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决策者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护士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医生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3708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职责范围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属于护理职责范围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属于医疗职责范围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诊断所列名称应明确、书写规范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简单易懂，尽量使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NAND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认可的护理诊断名称，这样有利于护士直接的交流和探讨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避免用症状或体征代替护理诊断，避免与护理目标、护理措施、医疗诊断相混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项护理诊断针对患者的一个健康问题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个患者可有多个护理诊断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诊断应是由护理措施能够解决的问题，应指出护理的方向，有利于制订护理措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8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护理诊断书写的注意事项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诊断应明确相关因素，潜在的护理诊断应列出危险因素，因为护理计划制订的护理措施多是针对相关因素的，相同的护理诊断如果相关因素不同，护理措施也不同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诊断不应有引起法律纠纷的描述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避免价值判断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0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护理诊断书写的注意事项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四节  护理计划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排列护理诊断的顺序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确定预期目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制订护理措施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计划成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排列护理诊断的优先顺序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23640" y="1197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诊断的优先顺序分类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首优问题：是指那些对生命威胁最大，需要立即采取行动予以解决的问题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中优问题：是指那些虽然不直接威胁生命，但对服务对象的身心造成痛苦，严重影响服务对象健康或情绪上变化的问题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优问题：是指那些个人在应对发展和生活变化时所遇到的问题，这些问题虽然不如生理需要和安全需要问题迫切，但并非不重要，同样需要护士给予帮助，使问题得到解决，以便服务对象达到最佳健康状态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排列护理诊断的优先顺序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排列原则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1199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按马斯洛的人类基本需要层次论进行排序，优先解决生理需要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1199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在无原则冲突的情况下，可考虑患者认为最重要的问题予以优先解决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1199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现存的问题优先处理，但不要忽视潜在的和合作性问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1199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排序不是固定不变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确定预期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种类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短期目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长期目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陈述方式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主语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谓语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行为标准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条件状语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价时间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82087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识记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复述护理程序、护理诊断的概念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说出资料收集的内容、来源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说出护理诊断的组成、类型、陈述方式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描述护理目标的种类、陈述方式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理解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比较主观资料和客观资料的不同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举例说明护理诊断的不同类型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比较护理诊断与合作性问题及医疗诊断的不同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确定预期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23640" y="126792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标应以服务对象为中心，即目标的主语一定是患者或患者的一部分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标应有明确的针对性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标陈述应简单明了，切实可行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标应具体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标应有时间限制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关于潜在并发症的目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制订护理措施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措施的类型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独立性的护理措施：指不依赖医生的医嘱，护士能够独立提出并完成的措施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合作性的护理措施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是护士与其他健康保健人员相互合作采取的行动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依赖性的护理措施：是指护士执行医嘱的护理活动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制订护理措施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措施必须具有一定的科学依据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措施应有针对性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措施切实可行、因人而异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措施应保证服务对象的安全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措施要具体细致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鼓励服务对象参与制订护理措施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护理计划成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计划记录计算机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1199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将护理评估资料输入计算机，计算机将会显示相应的护理诊断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1199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选定护理诊断后，计算机即可显示与护理诊断相对应的原因、预期目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1199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在预期目标后，计算机即提示可行的护理措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1199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选择护理措施后，制订出一份个体化的护理计划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1199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打印护理计划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五节  实  施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71280" y="1356840"/>
            <a:ext cx="878688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实施中护士应具备的技能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实施的内容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实施的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实施的过程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实施中护士应具备的技能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认知能力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人际交往能力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操作技术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实施的内容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23640" y="1197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将护理计划所制订的活动加以组织、任务落实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执行医嘱，保持医疗和护理有机结合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解答服务对象及家属的咨询问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及时评价实施的质量、效果，观察病情，处理突发急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继续收集资料，及时、准确地完成护理记录，不断补充和修正护理计划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与其他医务人员保持良好关系，做好交班工作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管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咨询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教育和指导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沟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记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报告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4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实施的方法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实施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思考整理过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wha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who how when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准备过程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601"/>
              </a:spcBef>
              <a:spcAft>
                <a:spcPts val="601"/>
              </a:spcAft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重新评估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601"/>
              </a:spcBef>
              <a:spcAft>
                <a:spcPts val="601"/>
              </a:spcAft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检查和修改护理计划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601"/>
              </a:spcBef>
              <a:spcAft>
                <a:spcPts val="601"/>
              </a:spcAft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准备实施护理措施所需要的知识和技能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601"/>
              </a:spcBef>
              <a:spcAft>
                <a:spcPts val="601"/>
              </a:spcAft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预测可能发生的并发症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601"/>
              </a:spcBef>
              <a:spcAft>
                <a:spcPts val="601"/>
              </a:spcAft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组织资源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6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实施的过程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执行计划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运用操作技术、沟通技巧、观察能力、合作能力和应变能力执行护理措施的过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实施的动态记录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记录的内容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记录的方法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601"/>
              </a:spcBef>
              <a:spcAft>
                <a:spcPts val="601"/>
              </a:spcAft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以问题为中心的记录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SOAPIE)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601"/>
              </a:spcBef>
              <a:spcAft>
                <a:spcPts val="601"/>
              </a:spcAft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要点记录表格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601"/>
              </a:spcBef>
              <a:spcAft>
                <a:spcPts val="601"/>
              </a:spcAft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问题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干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评价系统记录表格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PIE)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8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实施的过程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8000" y="1413000"/>
            <a:ext cx="849636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理解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简述书写护理诊断和护理诊断排序的注意事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叙述制订护理目标的注意事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举例说明护理措施的类型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叙述护理措施制订的注意事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运用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在临床实践中，运用护理程序为患者制订护理计划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价目的和形式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价的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评价的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0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六节  评 价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42920" y="213840"/>
            <a:ext cx="875016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评价目的和形式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56760" y="126792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35480" indent="-28296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了解服务对象对健康问题的反应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35480" indent="-28296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验证护理效果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35480" indent="-28296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调控护理质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35480" indent="-28296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积累护理经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39480" indent="-3394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形式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35480" indent="-28296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过程的评价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35480" indent="-28296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效果的评价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35480" indent="-28296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价目标实现程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35480" indent="-28296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评价的步骤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56760" y="126792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建立评价标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27920" indent="-280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确定评价阶段所需收集资料的类型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27920" indent="-280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提供判断服务对象健康资料的标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35880" indent="-3358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收集资料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35880" indent="-3358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价预期目标是否实现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35880" indent="-3358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重审护理计划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27920" indent="-280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继续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27920" indent="-280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停止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27920" indent="-280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取消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27920" indent="-280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修订或增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356760" y="128592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评价有不同的方法和类型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评价应贯穿在整个护理计划执行过程中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1199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及时评价、阶段评价、最终评价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评价除评价个体目标是否达到外，还应评价并改善群体护理质量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1199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结构、过程和结果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6" name="标题 1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护理评价的注意事项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24000" y="1628280"/>
            <a:ext cx="8610480" cy="30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关于预期目标的描述，以下错误的是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标可分近期目标和远期目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标是护理人员的护理活动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标是患者的行为表现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标是期望患者达到的健康状态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设定目标是计划阶段的第二步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24000" y="1699920"/>
            <a:ext cx="8610480" cy="41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制订护理计划的主要依据是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诊断      　　　　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医疗诊断    　　　　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检查报告       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查体资料   　　　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既往病史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24000" y="112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以下资料中属于主观资料的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头晕        　　　　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面色苍白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体温过高      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四肢冰冷 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腹部压痛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250920" y="1699920"/>
            <a:ext cx="861048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女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岁。因高热＼呼吸困难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天入院。体检：精神萎靡，体温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9.0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呼吸困难，咳铁锈色痰，诊断为肺炎。以下对患者护理诊断的描述，正确的是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肺炎球菌性肺炎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高热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食欲下降　与高热有关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体温过高　与致病菌引起肺部感染有关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支气管肺炎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一节  概  述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程序的概念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程序的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程序与相关理论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程序的发展史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程序的作用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护理程序的概念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程序是一种有计划、系统而科学的护理工作方法，目的是确认和解决服务对象对现存或潜在健康问题的反应。它是一个综合的、动态的、具有决策和反馈功能的护理工作过程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护理程序的步骤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评估：是护理程序的最初阶段。是有目的、有计划、系统地收集服务对象的生理、心理、社会、精神、文化等方面的健康资料并进行整理，以发现和确认其健康问题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诊断：是对护理评估阶段所收集的资料进行分析并确定护理问题，从护理的角度描述服务对象的健康问题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计划：是针对护理诊断制订的具体护理措施，包括根据护理问题的轻重缓急将护理诊断排序、确定护理目标、制订护理措施和书写护理计划等内容，是护理行动的指南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护理程序的步骤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实施：是为达到护理目标，而将计划中的内容付诸行动的过程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评价：将服务对象的健康状态与预定目标进行比较并做出判断的过程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护理程序与相关理论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系统论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控制论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其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6-01-22T06:58:40Z</dcterms:modified>
  <cp:revision>226</cp:revision>
  <dc:subject/>
  <dc:title>内科护理学</dc:title>
</cp:coreProperties>
</file>